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1A1-C52B-4A86-87A8-04F494B9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434-B99E-4F22-9026-848ACEC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26400-CB4A-4053-8B45-F670931D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A0D5-92FB-4ED5-834D-91D9641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A4703-86A4-4E35-A399-9D680D85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EE64-DB5E-42EA-815A-E16C483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84BC-F59C-4CB4-9CD0-D8AC2167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36BD-6F7A-4738-94C5-1601926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DA1FE-1F1E-4B6F-96E1-94724AA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52E23-BACD-4C5D-838F-F1293DFC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C5761-452A-40D8-A2C7-F4BDE057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8F6AA-D20B-48E2-B500-FA318C0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C7A-5753-41A2-B12E-A62AE35D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1BBC4-995F-4CC1-9628-EA1932C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656AF-350E-4E1E-B8CA-F63F428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7655B-E107-48B5-B6E5-F76491E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6DA2-596D-47DC-B265-5D1B349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3929A-74D4-4596-92E8-C6A64370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EF1CF-08A9-47F9-9D7A-1728569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CD60-CAA7-430E-8061-9E366D5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3CCA-A8A8-46B6-8F3E-1B9851F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FF93B-16D0-43FD-8E8C-D8E8F58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8C184-B26F-4AE2-8D60-36240D2B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5AD-4ACA-4D77-91DA-AEB48D15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0F90-0729-49ED-A59E-201C7B93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2A93D-7E40-446C-AEA3-3A1AAA34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97A13-6FF9-4AB1-938E-E8129B6D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5043-6A72-43DA-8243-6E6F96EF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4A6F6-FDB8-46E8-885F-66927F5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35EF7-312B-41B4-AFB7-B4B69EC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5E45-33F5-4F9C-AFC4-8795C80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71E10-3DBA-4CE5-BD74-C3F0B59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00076-9F6B-48DF-B882-42BEE6C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003E1-F711-4573-B39E-478B413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DB4A-4741-4815-A2BF-0FAE617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AC85D-1B79-4E8A-B846-DD29F4D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1F6D-960C-41B8-A702-C884B80D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F7C0-8F20-405B-9425-48FB6C7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C5FC5-7245-405E-B5D7-4FC64BE4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6E6F1-31A0-47CF-9572-E162CEE3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B06D4-95D7-44E6-B660-3A643AE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73518-A91E-4544-B150-ED8541FD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E777C-47BE-4455-AC5C-31FD71A2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CD396-320A-431D-A7EC-34DDC035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52961-A26D-4385-9DBA-4B428B3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547A-0CCD-4640-9592-2AC62866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229E7-183C-4DE6-9791-7CE5458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19722-8F52-4F4F-802C-66E640A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7C732-2982-42CA-A5E9-90D982D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CC7A-E5E8-43DE-8C84-07FDF5CA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A56B2-E8F3-45EB-A9DC-C3516DE9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B3A-F76A-42DE-8015-E8F246B2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142-60F1-4118-8AE2-0C369EB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56B3-9F51-437B-9F19-CED055DE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54F-EE77-4622-81F0-06E17EC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FD4D-D8D9-440F-85CF-17B570C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F72-1CEB-4049-B0C7-39181273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77D7-3CF0-4797-86D6-051320F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BBA-2688-4A9F-9BE9-7E2CB0E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52F9-A649-4E4C-BEF4-13384F8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7376-887C-4F5E-89E3-C9E14FFE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65D-D979-4572-8670-7BFEF2F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C16E-63CA-48CE-8AFE-9E57BE6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A323-43E5-4232-BE93-DCB460A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E5F8-B6EA-419B-99E5-AB866F6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2D88-A01B-4929-9B27-FA6DB687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4BBB-3A57-40E4-A165-CB724BC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516-5130-4E26-8270-4D7B355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D56B-A108-4EE6-ABAC-9222599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3FCE-05FD-4265-A8E5-DDC1127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5506-26D3-494C-A32A-612E34E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3E3E-982F-41AD-8443-DBF0F11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9692-D1CC-4399-A775-D73CC969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D42C-9BA9-43DB-8589-6D733FD2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B16A-2680-4508-9A12-0868633E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D2C6-452E-477C-A923-61CC1243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F2B1-979F-4573-8C9E-3928539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7D6A-69CA-4C53-8794-0CE1C9C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6BF-FAD0-4500-B925-313E7F66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B14D-27B7-4AEB-AB02-473D74A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A87C-2A62-468A-9D12-C62D7EF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2E5D-23F4-4581-99EC-5BBE00DD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86CA-045F-47E2-A3DA-48E185F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2267-936E-45C0-A1AA-3BB55AF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F0BD-F4F7-4D7B-81C7-F68ACCEF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5878-B93F-42AF-AA5B-38FD7B51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16E4-0364-4846-8D06-3298670E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7DF2-D48C-4DE7-84A7-17DE2B5D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98BD-CD37-4E11-AEEA-551B873A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3D7-398F-420D-A8E0-4E49FDF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7F87-D35E-4CA3-81F0-5E2522C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5069-5FBC-4EFE-B243-69668CE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E146-F75F-4057-93F0-A8262889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E4BF-BA5D-408A-B900-5138762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A458-6C41-416C-A5FB-90E7F704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3851-542A-46D1-A03D-E8EDD43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22B7-2391-4C98-AD49-0DEB55D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F968-153C-4FC1-B6C4-52632B9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1856-018D-468E-BF07-6DDF002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5A99-8036-440B-B1FF-2BAF1477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25-B1D8-491D-8528-0C147BE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7EAE-6D38-4C46-A3E5-952F288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497A5-7CA7-4B8A-B198-F7C6D319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B2A8-104C-483F-9B90-D0B661D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278F-1A41-4B4F-AAF3-44BD81F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438B-AE38-4937-B260-AC04FC3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7D8F-25ED-47E3-AE53-76D74FE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E79B-0441-477E-A759-D893F9EE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043A-9D9F-4A24-879C-8C539F2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4F342-3AE9-44A1-A238-9D7103A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103DA-C9C0-47B1-B247-543DA37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874-96F9-423A-A49D-F5AE615C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2E34-CDA8-45ED-9DF1-82B930FA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BB23-FC0D-4134-8ECD-25FF1937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A0AA3-F6CD-417C-9BC9-66F524D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5EEA5-8F24-4AF4-84EA-78C964AB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AE55-B05F-4904-9BA7-22AF5D7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A30A-B968-4FC4-B2CC-5ACB24A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4F9A-5342-4387-8FF2-A4D926B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601D-C761-4B9F-BE50-574B339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897C2-35A2-42A5-B303-7891B93A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D0DF-CD03-4DAC-A52D-0F02C7D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A21-E379-4EF5-AE6B-6697E2F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CF7A-B7F3-4F73-9B3C-019D1EC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A938E-E173-4888-BD81-48E4EE9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DA3E-F974-42DC-8E2D-C44E687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5E49-8F15-4E08-BD19-14619798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34B2B-3D4E-43AD-B1AC-35778B03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CD1FE-D2DB-4B96-A34E-A0973FE2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60B3-1168-450E-BF9F-47C2BA1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85F3B-2839-43EB-AE87-6EB0B20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E589-61FF-49BC-B706-E20DE32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0231E-F3D6-4F91-B691-471A5E5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35D-BD13-4DE8-8C76-73E1D9B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EF6EF-E930-4C78-8BA0-2567B96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CD21-D034-4CC0-BF5E-C970124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F3AC-D146-43A7-A8C4-4973FBA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D6F7-5A37-4F3D-9C9D-69A2B19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C85A-B248-4634-929B-8DEF16B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C915-A188-4AAF-806D-F1FAF878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8D73B-4B5D-4C7C-B1E2-D09D9ADB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B0DA9-C226-4631-BD89-C7FAD29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00092-D253-4733-B1F9-682637B1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79982-E6DC-4863-BF10-7DCEB0D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102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102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102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102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102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5CB1-39E6-41C7-8397-4331525C2D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F32-5659-4918-A8A3-52EFC04A4A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21F9-185B-4B33-AA29-5639860D7F5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07A6-73EB-4EE3-B75F-17C04F6A5A3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12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112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112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112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112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112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112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ACC3-316C-4910-9752-AF531EF689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6C0-AAF2-4A7E-B29E-840481CE111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DCC-69FA-4EF1-877B-483CCB8A9D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AA5-8516-4C37-B5F9-06EC9A9E62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A828-84BB-442C-B370-0601DFF172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33B-45FD-455C-980E-186E8CC2336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0A7-588F-431E-A27A-34FA6F1526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C41-4FE4-41AC-9291-3BC5B0305DD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7" descr="u=1521942418,1505818563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8"/>
          <p:cNvSpPr txBox="1"/>
          <p:nvPr/>
        </p:nvSpPr>
        <p:spPr>
          <a:xfrm>
            <a:off x="3124080" y="685800"/>
            <a:ext cx="2667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08" name="WordArt 9"/>
          <p:cNvSpPr txBox="1"/>
          <p:nvPr/>
        </p:nvSpPr>
        <p:spPr>
          <a:xfrm>
            <a:off x="3733920" y="3048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卢梅坡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509" name="雨果 - 梅花三弄.mp3" descr=""/>
          <p:cNvPicPr/>
          <p:nvPr/>
        </p:nvPicPr>
        <p:blipFill>
          <a:blip r:embed="rId4"/>
          <a:stretch/>
        </p:blipFill>
        <p:spPr>
          <a:xfrm>
            <a:off x="1905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6398ecd391685de1a9ec9a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3719160" y="1798560"/>
            <a:ext cx="127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27080" tIns="22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720240" y="22867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720240" y="28519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099240" y="3585240"/>
            <a:ext cx="280836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719520" y="39808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3741120" y="4409640"/>
            <a:ext cx="5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， 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720960" y="489852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WordArt 13"/>
          <p:cNvSpPr txBox="1"/>
          <p:nvPr/>
        </p:nvSpPr>
        <p:spPr>
          <a:xfrm>
            <a:off x="3352680" y="1371600"/>
            <a:ext cx="2438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u=2072612233,2288342106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4952880" y="3049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作者简介</a:t>
            </a:r>
            <a:endParaRPr b="0" i="1" lang="en-US" sz="2400" spc="1" strike="noStrike" u="sng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4343400" y="2918880"/>
            <a:ext cx="40384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卢梅坡，南宋诗人。生卒年不详。历史关于他的记载很少，几乎没有，我们只能从他的诗词与别人的诗词中推测他简单的一些经历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最有名的词就是两首雪梅了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梅无雪不精神，有雪无诗俗了人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日暮诗成天又雪，与梅并作十分春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骚人阁笔费评章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雪却输梅一段香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两首词可见这位文人的雅兴和志趣。他喜爱梅花应是到了极点 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162520" y="231228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2162520" y="2801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2162520" y="322992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2162160" y="37792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2162520" y="4268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2286360" y="480024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2163600" y="510948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u=1734265470,4026799435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WordArt 8"/>
          <p:cNvSpPr txBox="1"/>
          <p:nvPr/>
        </p:nvSpPr>
        <p:spPr>
          <a:xfrm>
            <a:off x="1066680" y="609480"/>
            <a:ext cx="25909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685800" y="3124080"/>
            <a:ext cx="289548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WordArt 10"/>
          <p:cNvSpPr txBox="1"/>
          <p:nvPr/>
        </p:nvSpPr>
        <p:spPr>
          <a:xfrm>
            <a:off x="5486400" y="762120"/>
            <a:ext cx="1981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注释</a:t>
            </a:r>
            <a:endParaRPr b="0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4495680" y="3701520"/>
            <a:ext cx="38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降（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xiáng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），服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阁，同“搁”，放下。评章，评议的文章，这里指评议梅与雪的高下</a:t>
            </a:r>
            <a:r>
              <a:rPr b="0" i="1" lang="zh-CN" sz="3200" spc="-1" strike="noStrike" u="sng">
                <a:solidFill>
                  <a:srgbClr val="9933ff"/>
                </a:solidFill>
                <a:uFillTx/>
                <a:latin typeface="Arial"/>
                <a:ea typeface="宋体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u=393120433,6302664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8"/>
          <p:cNvSpPr txBox="1"/>
          <p:nvPr/>
        </p:nvSpPr>
        <p:spPr>
          <a:xfrm>
            <a:off x="5791320" y="4572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解释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219320" y="60948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雪梅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685800" y="3048120"/>
            <a:ext cx="3200400" cy="308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4343400" y="3627360"/>
            <a:ext cx="449568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梅花和雪花都认为各自占尽了春色，谁也不肯服输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难坏了诗人，难写评判文章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说句公道话，梅花须逊让雪花三分晶莹洁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雪花却输给梅花一段清香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360" y="353484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1080" y="3887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u=2079514108,200575571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6094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宋体"/>
              </a:rPr>
              <a:t>赏析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3429000" y="312300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古今不少诗人往往把雪、梅并写。雪因梅，透露出春的信息，梅因雪更显出高尚的品格。如毛泽东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卜算子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咏梅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中就曾写道：“风雨送春归，飞雪迎春到。已是悬崖百丈冰，犹有花枝俏。俏也不争春，只把春来报。待到山花烂漫时，她在丛中笑。”雪、梅都成了报春的使者、冬去春来的象征。但在诗人卢梅坡的笔下，二者却为争春发生了“摩擦”，都认为各自占尽了春色，装点了春光，而且谁也不肯相让。这种写法，实在是新颖别致，出人意料，难怪诗人无法判个高低。诗的后两句巧妙地托出二者的长处与不足：梅不如雪白，雪没有梅香，回答了“骚人阁笔费评章”的原因，也道出了雪、梅各执一端的根据。读完全诗，我们似乎可以看出作者写这首诗是意在言外的：借雪梅的争春，告诫我们人各有所长，也各有所短，要有自知之明。取人之长，补己之短，才是正理。这首诗既有情趣，也有理趣，值得咏思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u=339281186,243162550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9"/>
          <p:cNvSpPr txBox="1"/>
          <p:nvPr/>
        </p:nvSpPr>
        <p:spPr>
          <a:xfrm>
            <a:off x="4572000" y="38088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4495680" y="2743200"/>
            <a:ext cx="3505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56Z</dcterms:created>
  <dc:creator/>
  <dc:description/>
  <dc:language>en-US</dc:language>
  <cp:lastModifiedBy>万润仪器贸易公司</cp:lastModifiedBy>
  <dcterms:modified xsi:type="dcterms:W3CDTF">2020-08-24T03:32:0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